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A3A3-1EC9-4FE7-8FDF-912656C9B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EBF9-608B-4903-A274-FE0C865A9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18AA-C205-4598-84CE-79EC6FF1C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5D4F-14DD-4C07-84C8-CA7D772F7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E33C-FA20-44AD-BB1E-4CE053C84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FA92-7E4F-412B-8155-F992A80A6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B2B1-16AE-4022-B5E3-EB20136ED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2E93-8A0F-4959-BC21-B85D05EF2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BE03-5971-4256-8011-A4A9FFFCD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5889-99E2-4AAA-940B-E5DF7B11B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163F-E13C-42B1-A156-C6EC61729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B0E2-EE43-4446-A7D2-D2B9861D7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404B7-2059-4C7D-9EF3-B356822BAD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etasploit.com/" TargetMode="External"/><Relationship Id="rId2" Type="http://schemas.openxmlformats.org/officeDocument/2006/relationships/hyperlink" Target="http://www.delikon.de/shellbuch/tools.zip" TargetMode="External"/><Relationship Id="rId3" Type="http://schemas.openxmlformats.org/officeDocument/2006/relationships/hyperlink" Target="http://www.delikon.de/" TargetMode="External"/><Relationship Id="rId4" Type="http://schemas.openxmlformats.org/officeDocument/2006/relationships/hyperlink" Target="mailto:ich@delikon.de" TargetMode="External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delikon.de/zips/remote.zip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838080"/>
            <a:ext cx="9144000" cy="57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Times New Roman"/>
              </a:rPr>
              <a:t>A simple tutorial about Win32 Shellco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With the following multicolored pictures i try,to point out the tools and the easiest way(not the best, for the best look at </a:t>
            </a:r>
            <a:r>
              <a:rPr b="0" lang="de-DE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metasploit.com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) to construct a win32 shellcode.This paper aims on people, which have read some papers about Bofs and shellcoding for Linux, but never have written some assembler codes for Win32.In this paper i only use hardcoded function-addresses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The tools you need a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VC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a Textedi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the sourecode and binarys of the following tools and the sourcecodes i use in the tutorial are </a:t>
            </a:r>
            <a:r>
              <a:rPr b="0" lang="de-DE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ere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(http://www.delikon.de/shellbuch/tools.zi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For comments visit me at </a:t>
            </a:r>
            <a:r>
              <a:rPr b="0" lang="de-DE" sz="1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delikon.de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or mail at </a:t>
            </a:r>
            <a:r>
              <a:rPr b="0" lang="de-DE" sz="16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ich@delikon.de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8991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fter everything works well now, please copy the code in a arbitrary file and delete the "ptr" string, because nasm doesn't know this syntax, and write for the header "BITS 32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finished-asm-file" descr=""/>
          <p:cNvPicPr/>
          <p:nvPr/>
        </p:nvPicPr>
        <p:blipFill>
          <a:blip r:embed="rId1"/>
          <a:stretch/>
        </p:blipFill>
        <p:spPr>
          <a:xfrm>
            <a:off x="0" y="1046160"/>
            <a:ext cx="8001000" cy="58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899172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w compile the file 2.asm with nasm, and generate with my tool makeshell.exe this shellco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nasm -s -fbin 2.a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makeshell.ex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w you can find the shellcode in the file shellcode.c, he will work well(compile it and test it) but it contains NULL-BYTES which can cause probl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show-normal-shell" descr=""/>
          <p:cNvPicPr/>
          <p:nvPr/>
        </p:nvPicPr>
        <p:blipFill>
          <a:blip r:embed="rId1"/>
          <a:stretch/>
        </p:blipFill>
        <p:spPr>
          <a:xfrm>
            <a:off x="0" y="2406600"/>
            <a:ext cx="6375240" cy="44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891540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 get away the NULL-BYTES, we have to Xor the shellcode.Please use for this my tool encode.ex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encode 2 0x95 &gt;&gt;db-array.t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code checks if the are any null-bytes or bytes which you cannot use in windows-file-names, because you never know for what you need the shellcode(look at the winhelp32.exe overflow).At this picture is everything allright.Now paste this array in a decryption-code,because without you cannot use this shellco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show-db-array" descr=""/>
          <p:cNvPicPr/>
          <p:nvPr/>
        </p:nvPicPr>
        <p:blipFill>
          <a:blip r:embed="rId1"/>
          <a:stretch/>
        </p:blipFill>
        <p:spPr>
          <a:xfrm>
            <a:off x="0" y="2819520"/>
            <a:ext cx="8934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899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w check if it looks like this.Dont't forget to paste the right xor byte in . in this case 0x9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show-decode-source" descr=""/>
          <p:cNvPicPr/>
          <p:nvPr/>
        </p:nvPicPr>
        <p:blipFill>
          <a:blip r:embed="rId1"/>
          <a:stretch/>
        </p:blipFill>
        <p:spPr>
          <a:xfrm>
            <a:off x="0" y="768240"/>
            <a:ext cx="8381880" cy="60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8915400" cy="37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w the only thing to do is to compile it and generate the c-co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nasm -s -fbin decode.a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makeshell 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..and every Null-byte is gone(\x00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nish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remote hacks you need another command. This one -&gt;'cmd /c net share c=c:"'. With this command you can share the c: drive with the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sourcecodes for this shellcode you can find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ere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(http://www.delikon.de/zips/remote.zi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show-encoded-shell" descr=""/>
          <p:cNvPicPr/>
          <p:nvPr/>
        </p:nvPicPr>
        <p:blipFill>
          <a:blip r:embed="rId2"/>
          <a:stretch/>
        </p:blipFill>
        <p:spPr>
          <a:xfrm>
            <a:off x="1143000" y="3809880"/>
            <a:ext cx="54608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91540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s is the code we want to disassemble .It consists of 2 func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the execution of a CMD-shell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a exit(1) call, this call is very important,because if we use the shellcode in a bufferoverlow, and close the shell we would cause an err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show-c-code" descr=""/>
          <p:cNvPicPr/>
          <p:nvPr/>
        </p:nvPicPr>
        <p:blipFill>
          <a:blip r:embed="rId1"/>
          <a:stretch/>
        </p:blipFill>
        <p:spPr>
          <a:xfrm>
            <a:off x="914400" y="1598760"/>
            <a:ext cx="7238880" cy="52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w we will debug your code, the first thing to do, put the cursor right behind the exit(1) call and start the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run-c-code" descr=""/>
          <p:cNvPicPr/>
          <p:nvPr/>
        </p:nvPicPr>
        <p:blipFill>
          <a:blip r:embed="rId1"/>
          <a:stretch/>
        </p:blipFill>
        <p:spPr>
          <a:xfrm>
            <a:off x="457200" y="768240"/>
            <a:ext cx="8381880" cy="60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w we start the disassemb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disas" descr=""/>
          <p:cNvPicPr/>
          <p:nvPr/>
        </p:nvPicPr>
        <p:blipFill>
          <a:blip r:embed="rId1"/>
          <a:stretch/>
        </p:blipFill>
        <p:spPr>
          <a:xfrm>
            <a:off x="0" y="380880"/>
            <a:ext cx="89154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w copy everything from main till call ex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017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w copy everything from main till call ex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debug" descr=""/>
          <p:cNvPicPr/>
          <p:nvPr/>
        </p:nvPicPr>
        <p:blipFill>
          <a:blip r:embed="rId1"/>
          <a:stretch/>
        </p:blipFill>
        <p:spPr>
          <a:xfrm>
            <a:off x="0" y="601560"/>
            <a:ext cx="8610480" cy="625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w paste everything in __asm{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copy-debug" descr=""/>
          <p:cNvPicPr/>
          <p:nvPr/>
        </p:nvPicPr>
        <p:blipFill>
          <a:blip r:embed="rId1"/>
          <a:stretch/>
        </p:blipFill>
        <p:spPr>
          <a:xfrm>
            <a:off x="0" y="380880"/>
            <a:ext cx="89154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 will left only the important lines of code,because your goal is to code a very small shellcode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format-code2" descr=""/>
          <p:cNvPicPr/>
          <p:nvPr/>
        </p:nvPicPr>
        <p:blipFill>
          <a:blip r:embed="rId1"/>
          <a:stretch/>
        </p:blipFill>
        <p:spPr>
          <a:xfrm>
            <a:off x="0" y="657360"/>
            <a:ext cx="8534520" cy="62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06768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w we need the two function addresses of WinExec and ExitProce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that we use depends.exe(from the Microsoft SDK) and open with depends the compiled fi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address of WinExec is the kerneladdress + the Entry Point of WinExec = 0x77e70000+0x00018601=0x77e88601 now do the same with ExitProcess (Maybe you have different addresse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search-winexec-addr" descr=""/>
          <p:cNvPicPr/>
          <p:nvPr/>
        </p:nvPicPr>
        <p:blipFill>
          <a:blip r:embed="rId1"/>
          <a:stretch/>
        </p:blipFill>
        <p:spPr>
          <a:xfrm>
            <a:off x="914400" y="2319480"/>
            <a:ext cx="6248520" cy="45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8991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only thing which is left, is to move the addresses into eax and call it . Now compile the code and start it, if the code looks like this picture but don't work, you have used the wrong addres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vc-finished-code" descr=""/>
          <p:cNvPicPr/>
          <p:nvPr/>
        </p:nvPicPr>
        <p:blipFill>
          <a:blip r:embed="rId1"/>
          <a:stretch/>
        </p:blipFill>
        <p:spPr>
          <a:xfrm>
            <a:off x="0" y="934920"/>
            <a:ext cx="8153280" cy="59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3T11:51:56Z</dcterms:created>
  <dc:creator>dfsdf</dc:creator>
  <dc:description/>
  <dc:language>en-US</dc:language>
  <cp:lastModifiedBy>dfsdf</cp:lastModifiedBy>
  <dcterms:modified xsi:type="dcterms:W3CDTF">2003-11-23T12:52:07Z</dcterms:modified>
  <cp:revision>3</cp:revision>
  <dc:subject/>
  <dc:title>PowerPoint-Präsentation</dc:title>
</cp:coreProperties>
</file>