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42E-BF35-4792-8A44-D272F837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activates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M hashes BIOS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loads B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Option ROM’s, stores hash in TPM. Option ROM’s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DRM boot loader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loads DRM boot lo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hashes DRM kernel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loads DRM ker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verifies pervious hashes, hashes the OS, stores the hash in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decrypts OS symmetric key (3DES or AES) with a user key internal to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uses the OS decryption key to dynamically decrypt the operating system while loading the OS from mass storage into memory.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loads initial approved hardware list (HCL), initial Serial Number Revocation List (SRL), verifies previous ha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ADB-934F-464A-BF3F-FF833ADA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EBF-17F8-416C-B83F-1D568EF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AF9-BDA8-4BFB-A9C1-6EBD0632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2A4-EC6F-4A03-A601-9089D859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BDB-D1D4-4727-A28A-2552E3D8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3DE-3483-45DF-BBFA-315B1A9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C6FF-7881-496B-831E-09E89F7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CF1C-8FCC-4A13-8566-37D2C3D1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9CD-C980-467C-99C1-6660698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C7FE-44FD-439B-B29A-A4F4E7E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4D0-9C07-4C75-8C5F-58764D2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9A7-422E-47D4-9425-B17B95C5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F2A-2100-4615-82EE-1AB3536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1E8-FC99-4CC1-9BC7-CD77561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4F2-C618-48D1-B243-29509E11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6E5A-4725-4BB6-9D16-605E0FDD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3157-5D5A-400D-9CBC-74420887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986-0C1E-4A6B-A172-CFCC9C3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611-0667-4E64-AED0-D1B70B9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706-AA57-4E6E-9086-8C83A7A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B73-4066-4128-9396-0F87C61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CDB-8D8F-4413-854F-FF315BE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30D-161B-4E2F-8168-5DDFFF5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89B-37CA-4418-B306-85C2532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A612-41F4-4B62-800A-7B11367DC01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2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A9DF-371F-4F01-82FB-4753D1BF29B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c7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amrock@cypherpunks.to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ustedcomputing.org/" TargetMode="External"/><Relationship Id="rId3" Type="http://schemas.openxmlformats.org/officeDocument/2006/relationships/hyperlink" Target="http://www.cl.cam.ac.uk/~rja14/tcpa-faq.html" TargetMode="External"/><Relationship Id="rId4" Type="http://schemas.openxmlformats.org/officeDocument/2006/relationships/hyperlink" Target="http://www.ftp.cl.cam.ac.uk/ftp/users/rja14/toulouse.pdf" TargetMode="External"/><Relationship Id="rId5" Type="http://schemas.openxmlformats.org/officeDocument/2006/relationships/hyperlink" Target="http://www.msnbc.com/news/770511.asp?cp1=1" TargetMode="External"/><Relationship Id="rId6" Type="http://schemas.openxmlformats.org/officeDocument/2006/relationships/hyperlink" Target="http://www.uspto.gov/patft/" TargetMode="External"/><Relationship Id="rId7" Type="http://schemas.openxmlformats.org/officeDocument/2006/relationships/hyperlink" Target="http://www.microsoft.com/presspass/features/2002/jul02/07-01palladium.asp" TargetMode="External"/><Relationship Id="rId8" Type="http://schemas.openxmlformats.org/officeDocument/2006/relationships/hyperlink" Target="http://thomas.loc.gov/cgi-bin/query/z?c107:S.2048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Business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use of unlicense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Rights Management (D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CD ripping and DivX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“analog ho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formation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C the core of the home entertainment center, growing overall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operational needs of law enforcement and intelligence services (FBI, Homeland, NSA, non-U.S. law enforceme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Intern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ptographic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ing (SHA-1, H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ion (RNG), post-whitening outpu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generation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encrypt/decrypt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ncrypt/decrypt (3DES, A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operations may be performed off-c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per-resistant hash and key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Key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rsement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RSA key generated at time of manufacture. Signed by manufacturer’s key, which is signed by the TCPA master key. Used to prove that the TPM is genu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user RSA keys certified by a “Privacy CA” at time of TPM activation. Used to identify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81480" y="2133720"/>
            <a:ext cx="2590920" cy="4343400"/>
          </a:xfrm>
          <a:prstGeom prst="rect">
            <a:avLst/>
          </a:prstGeom>
          <a:solidFill>
            <a:srgbClr val="969696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pre-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057400"/>
            <a:ext cx="1905120" cy="45720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 boot bloc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19520"/>
            <a:ext cx="1600200" cy="6858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9718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733920"/>
            <a:ext cx="1600200" cy="7617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p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4724280"/>
            <a:ext cx="1600200" cy="9144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boot load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95288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791320"/>
            <a:ext cx="1676520" cy="5331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kern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6477120"/>
            <a:ext cx="609480" cy="228600"/>
          </a:xfrm>
          <a:prstGeom prst="flowChartOffpage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1" idx="2"/>
            <a:endCxn id="122" idx="1"/>
          </p:cNvCxnSpPr>
          <p:nvPr/>
        </p:nvCxnSpPr>
        <p:spPr>
          <a:xfrm flipH="1">
            <a:off x="2628360" y="2514240"/>
            <a:ext cx="76680" cy="30564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1" name=""/>
          <p:cNvCxnSpPr>
            <a:stCxn id="122" idx="4"/>
            <a:endCxn id="124" idx="1"/>
          </p:cNvCxnSpPr>
          <p:nvPr/>
        </p:nvCxnSpPr>
        <p:spPr>
          <a:xfrm>
            <a:off x="2628720" y="350496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2" name=""/>
          <p:cNvCxnSpPr>
            <a:stCxn id="124" idx="4"/>
            <a:endCxn id="126" idx="1"/>
          </p:cNvCxnSpPr>
          <p:nvPr/>
        </p:nvCxnSpPr>
        <p:spPr>
          <a:xfrm>
            <a:off x="2628720" y="449532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3" name=""/>
          <p:cNvCxnSpPr>
            <a:stCxn id="126" idx="4"/>
            <a:endCxn id="128" idx="1"/>
          </p:cNvCxnSpPr>
          <p:nvPr/>
        </p:nvCxnSpPr>
        <p:spPr>
          <a:xfrm>
            <a:off x="2628720" y="5638680"/>
            <a:ext cx="3852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4" name=""/>
          <p:cNvCxnSpPr>
            <a:stCxn id="128" idx="4"/>
            <a:endCxn id="129" idx="0"/>
          </p:cNvCxnSpPr>
          <p:nvPr/>
        </p:nvCxnSpPr>
        <p:spPr>
          <a:xfrm>
            <a:off x="2666520" y="6324480"/>
            <a:ext cx="108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5" name=""/>
          <p:cNvCxnSpPr>
            <a:stCxn id="122" idx="5"/>
            <a:endCxn id="123" idx="1"/>
          </p:cNvCxnSpPr>
          <p:nvPr/>
        </p:nvCxnSpPr>
        <p:spPr>
          <a:xfrm>
            <a:off x="3265560" y="3162240"/>
            <a:ext cx="237384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5"/>
            <a:endCxn id="125" idx="1"/>
          </p:cNvCxnSpPr>
          <p:nvPr/>
        </p:nvCxnSpPr>
        <p:spPr>
          <a:xfrm>
            <a:off x="3265560" y="411444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27" idx="1"/>
          </p:cNvCxnSpPr>
          <p:nvPr/>
        </p:nvCxnSpPr>
        <p:spPr>
          <a:xfrm>
            <a:off x="3265560" y="518112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5638680" y="579132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8" idx="5"/>
            <a:endCxn id="138" idx="1"/>
          </p:cNvCxnSpPr>
          <p:nvPr/>
        </p:nvCxnSpPr>
        <p:spPr>
          <a:xfrm flipV="1">
            <a:off x="3335400" y="6019560"/>
            <a:ext cx="230400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9880" y="3886200"/>
            <a:ext cx="1676520" cy="2514600"/>
          </a:xfrm>
          <a:prstGeom prst="rect">
            <a:avLst/>
          </a:prstGeom>
          <a:solidFill>
            <a:srgbClr val="cccccc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Tahoma"/>
              </a:rPr>
              <a:t>Phase II: inside TP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86000"/>
            <a:ext cx="2133720" cy="4114800"/>
          </a:xfrm>
          <a:prstGeom prst="rect">
            <a:avLst/>
          </a:prstGeom>
          <a:solidFill>
            <a:srgbClr val="969696">
              <a:alpha val="30000"/>
            </a:srgbClr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057400"/>
            <a:ext cx="457200" cy="457200"/>
          </a:xfrm>
          <a:prstGeom prst="flowChart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895480"/>
            <a:ext cx="1219320" cy="76212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04812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67080"/>
            <a:ext cx="137160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SA decrypt OS binary ke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ES decrypt OS bina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oad 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0"/>
            <a:ext cx="1447560" cy="342900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roved Hardware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HC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ial Number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S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4"/>
            <a:endCxn id="144" idx="1"/>
          </p:cNvCxnSpPr>
          <p:nvPr/>
        </p:nvCxnSpPr>
        <p:spPr>
          <a:xfrm>
            <a:off x="3047760" y="2514600"/>
            <a:ext cx="1080" cy="38160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1" name=""/>
          <p:cNvCxnSpPr>
            <a:stCxn id="145" idx="2"/>
            <a:endCxn id="146" idx="0"/>
          </p:cNvCxnSpPr>
          <p:nvPr/>
        </p:nvCxnSpPr>
        <p:spPr>
          <a:xfrm flipH="1">
            <a:off x="6476760" y="3505320"/>
            <a:ext cx="38880" cy="7624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2" name=""/>
          <p:cNvCxnSpPr>
            <a:stCxn id="146" idx="1"/>
            <a:endCxn id="147" idx="3"/>
          </p:cNvCxnSpPr>
          <p:nvPr/>
        </p:nvCxnSpPr>
        <p:spPr>
          <a:xfrm flipH="1">
            <a:off x="5181120" y="4723920"/>
            <a:ext cx="610560" cy="108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153" name=""/>
          <p:cNvCxnSpPr>
            <a:stCxn id="149" idx="4"/>
            <a:endCxn id="148" idx="1"/>
          </p:cNvCxnSpPr>
          <p:nvPr/>
        </p:nvCxnSpPr>
        <p:spPr>
          <a:xfrm>
            <a:off x="1752480" y="4000680"/>
            <a:ext cx="610560" cy="72432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981080" y="5791320"/>
            <a:ext cx="1600200" cy="53316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 is runn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8" idx="2"/>
            <a:endCxn id="154" idx="0"/>
          </p:cNvCxnSpPr>
          <p:nvPr/>
        </p:nvCxnSpPr>
        <p:spPr>
          <a:xfrm flipH="1">
            <a:off x="2780640" y="5181480"/>
            <a:ext cx="191160" cy="6105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6" name=""/>
          <p:cNvCxnSpPr>
            <a:stCxn id="144" idx="5"/>
            <a:endCxn id="145" idx="1"/>
          </p:cNvCxnSpPr>
          <p:nvPr/>
        </p:nvCxnSpPr>
        <p:spPr>
          <a:xfrm>
            <a:off x="3533400" y="3276360"/>
            <a:ext cx="21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1"/>
            <a:endCxn id="148" idx="3"/>
          </p:cNvCxnSpPr>
          <p:nvPr/>
        </p:nvCxnSpPr>
        <p:spPr>
          <a:xfrm flipH="1">
            <a:off x="3580560" y="4723920"/>
            <a:ext cx="38196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Known Initial St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S is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I cards are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MA devices do not enable unapproved access to operating 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kernel-level debugger is loa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list of undesirable applications is available f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TCPA operat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: Palladium (DRM OS pat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: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secure time counter (no turning back the system cloc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system time against authenticated online time serv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HCL and SRL updates over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application loader protection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refuse to load a non-TCPA approv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load a non-approved application, sending SIGCOMP to all loaded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ication Loader Protection Modes Compari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2209680"/>
          <a:ext cx="8001000" cy="416268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28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”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hashes application, stores hash in TPM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TCPA-approved applications not listed on a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application o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non-approved applic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 TCP applications receive SIGCOMP, zeroize their operating RAM, and shut down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Application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362320"/>
            <a:ext cx="1600200" cy="6094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loade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133720"/>
            <a:ext cx="121932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hashes in TPM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2133720"/>
            <a:ext cx="106668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platform I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133720"/>
            <a:ext cx="114300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license dur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648320"/>
            <a:ext cx="137160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SRL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648320"/>
            <a:ext cx="190512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mandatory applications are running (Spyware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52388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Document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D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648320"/>
            <a:ext cx="1219320" cy="144756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RL Ser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13372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42900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7" idx="3"/>
            <a:endCxn id="168" idx="1"/>
          </p:cNvCxnSpPr>
          <p:nvPr/>
        </p:nvCxnSpPr>
        <p:spPr>
          <a:xfrm>
            <a:off x="1828800" y="2666520"/>
            <a:ext cx="38160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8" name=""/>
          <p:cNvCxnSpPr>
            <a:stCxn id="168" idx="3"/>
            <a:endCxn id="169" idx="1"/>
          </p:cNvCxnSpPr>
          <p:nvPr/>
        </p:nvCxnSpPr>
        <p:spPr>
          <a:xfrm>
            <a:off x="3428640" y="26665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9" name=""/>
          <p:cNvCxnSpPr>
            <a:stCxn id="169" idx="3"/>
            <a:endCxn id="170" idx="1"/>
          </p:cNvCxnSpPr>
          <p:nvPr/>
        </p:nvCxnSpPr>
        <p:spPr>
          <a:xfrm>
            <a:off x="4800240" y="2666520"/>
            <a:ext cx="22932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0" name=""/>
          <p:cNvCxnSpPr>
            <a:stCxn id="171" idx="3"/>
            <a:endCxn id="172" idx="1"/>
          </p:cNvCxnSpPr>
          <p:nvPr/>
        </p:nvCxnSpPr>
        <p:spPr>
          <a:xfrm>
            <a:off x="3276720" y="5371920"/>
            <a:ext cx="30528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1" name=""/>
          <p:cNvCxnSpPr>
            <a:stCxn id="172" idx="3"/>
            <a:endCxn id="173" idx="1"/>
          </p:cNvCxnSpPr>
          <p:nvPr/>
        </p:nvCxnSpPr>
        <p:spPr>
          <a:xfrm>
            <a:off x="54860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620120" y="5334120"/>
            <a:ext cx="1447560" cy="8380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ready for use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5" idx="3"/>
            <a:endCxn id="173" idx="0"/>
          </p:cNvCxnSpPr>
          <p:nvPr/>
        </p:nvCxnSpPr>
        <p:spPr>
          <a:xfrm flipH="1">
            <a:off x="6552720" y="3428640"/>
            <a:ext cx="1029600" cy="122004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3" idx="3"/>
            <a:endCxn id="182" idx="1"/>
          </p:cNvCxnSpPr>
          <p:nvPr/>
        </p:nvCxnSpPr>
        <p:spPr>
          <a:xfrm>
            <a:off x="7314840" y="5372280"/>
            <a:ext cx="305640" cy="381600"/>
          </a:xfrm>
          <a:prstGeom prst="bentConnector3">
            <a:avLst>
              <a:gd name="adj1" fmla="val 50000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5" name=""/>
          <p:cNvCxnSpPr>
            <a:stCxn id="174" idx="4"/>
            <a:endCxn id="171" idx="1"/>
          </p:cNvCxnSpPr>
          <p:nvPr/>
        </p:nvCxnSpPr>
        <p:spPr>
          <a:xfrm>
            <a:off x="15998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0" idx="2"/>
            <a:endCxn id="171" idx="0"/>
          </p:cNvCxnSpPr>
          <p:nvPr/>
        </p:nvCxnSpPr>
        <p:spPr>
          <a:xfrm rot="5400000">
            <a:off x="3371040" y="2419200"/>
            <a:ext cx="1448640" cy="3010680"/>
          </a:xfrm>
          <a:prstGeom prst="bentConnector3">
            <a:avLst>
              <a:gd name="adj1" fmla="val 49987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7" name=""/>
          <p:cNvCxnSpPr>
            <a:stCxn id="176" idx="2"/>
            <a:endCxn id="173" idx="0"/>
          </p:cNvCxnSpPr>
          <p:nvPr/>
        </p:nvCxnSpPr>
        <p:spPr>
          <a:xfrm flipH="1">
            <a:off x="6552720" y="4076640"/>
            <a:ext cx="1448640" cy="57240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ic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owner of a computer from obtaining root ac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orce three levels of access privile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CPA members onl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privileged access [platform owner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ivileged access [non-TCPA application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Stifling Com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me at this thinking about music, but then we realized that e-mail and documents were far more interesting domai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Bill Gates, Microso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ould create Word documents that could be read only in the next week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Steven Levy, MSNBC/News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How will the Law Help TCPA Stifle Competitio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vendors intend to wrap their file formats with D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What does a federal prosecutor call an application that is compatible with a proprietary DRM-wrapped file form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774"/>
                </a:solidFill>
                <a:latin typeface="Arial"/>
              </a:rPr>
              <a:t>Answer: An illegal infringement de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equences of Ubiquitous Digital Rights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it illegal to create interoperable software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 authors of interoperable software to penalties of up to $500,000 and 5 years in prison (and double that for subsequent offens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 is already on the books: Digital Millennium Copyright Act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858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Authors’ Cho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create interoperable soft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5 years in pr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Repo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ng State to Chall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operating system,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: challengers requesting state via the Internet (digital content servers, secure time servers, information authorization serv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porting to Remote Ent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challengers can determin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s in an approv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machine does not have privileged access to the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 software are fully licensed with maintenance fee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s are unmod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applications are 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Feature Enabl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e ongoing revenue 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fle competition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at the G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 information invalid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intelligence col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law enforcement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and many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8108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51460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feat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is developing a TCPA-compliant version of Lin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L requires the result to be Open Sour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 will compile and can be ver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: the source alone is useless without a TPM-specific certific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ed Fixes to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software authors to provide whichever services are necessary to enable an application to operate as the user des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Stallman’s “Free Speech” vs. “Free Beer”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M prevents application authors from providing the activation key even if they so desire. (Violation of the DM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third parties to provide th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agree that Carol shall provide free beer to all comers in perpetuity. (Unenforceable Contr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formation Inva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queries Document Revocation List servers for the latest DR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lacing a document on a DR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a compromised (unpaid) copy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court order: Official Secrets Act, copyrighted material, danger to Homel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illegal content: pictures of women without veils in Muslim countries, copy control ciph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umber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erit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where previous efforts have fail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D (Intel, 1995-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CPU instruction sets (Intel, 1995-TCPA Phase 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ryptography Framework (HP, 1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cards on motherboard (IBM, ongo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lligence Colle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signed by user keys allow activity corre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unique document IDs facilitate traffic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emptive information invalidation enables information flow contr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w Enforcement Nee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niable proof of auth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monitoring/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validation by court 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Law Enforcement access after public information invalidation for evidentiary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ll TCPA Meet Governmental Requi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talking to the government [...] T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vernments in the world, and not just the U.S. Government.”      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io Juarez, Microsoft, Palladium (TCPA) Product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itz Hollings Bill: S. 20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BDPTA (formerly SSS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 “analog hole” with 2048-bit 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 encrypt keyboard input t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 2048 makes i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lleg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ell non-TCPA-compliant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Fritz Hollings S. 2048 Penal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what is the penalty a person selling a non-TCPA approved computer will face under the Hollings bi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ix-it” ti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onths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Palladium will be Released as Open Sour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announced that Palladium’s source code will be pu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trying to be transparent in all th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im Allchin, Group Vice President, Windows, Microso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ke this as proof that Microsoft has changed its business pract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emain skep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iz: Why is Microsoft Releasing the Palladium Source Cod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: which of the following answers is correc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ntends to place MS Office under the GPL in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ll release the Windows source code under the BSD license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has little choice but to release Palladium as Open Source because S. 2048 requir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S. 2048 requires that “the security system standards shall ensure [...] that any software portion of such standards is based on open source cod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of TPM’s is Volunt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ng I can guarantee is that [Palladium] will be 'off' by default, an opt-in technolog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art Okin, Security Officer, Microsoft, 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asoline in a car is an opt-in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09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uld an OS Vendor Block “Undesirable” Appl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may provide security related updates to the OS Components that will be automatically downloaded onto your computer.  These security related updates may disable your ability to copy and/or play Secure Content and use other software on your computer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soft, Windows Media Player E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ase I: Digital H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 codes are in plaintext on the b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icroprobed off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Encrypted CPU instruction sets in TCPA Phase II (TPM inside CP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an select non-TCPA-approved OS for minimu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event non-approved OS from accessing CPU supervisor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ill be new modes and new instructions.... A whole new class of processors not differentiated by speed, but security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ffrey Strongin,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new hardware architecture involves some changes to CPUs which are significant from a functional perspective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io Juarez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ed in 1999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TCPA Might Succe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 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went alone. AMD publicly rejected Processor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advocates were not considered a serious th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, AMD, Motorola, BIOS vendors, system vendors, and application vendors are all 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 technical and legislativ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groups were brief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2680" y="3429000"/>
            <a:ext cx="8955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1066680" y="5486400"/>
            <a:ext cx="1981440" cy="380880"/>
          </a:xfrm>
          <a:prstGeom prst="borderCallout1">
            <a:avLst>
              <a:gd name="adj1" fmla="val 18750"/>
              <a:gd name="adj2" fmla="val -8333"/>
              <a:gd name="adj3" fmla="val 437495"/>
              <a:gd name="adj4" fmla="val -179648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Mobile Ph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-Enabled Platfor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257800"/>
            <a:ext cx="1752480" cy="380880"/>
          </a:xfrm>
          <a:prstGeom prst="borderCallout1">
            <a:avLst>
              <a:gd name="adj1" fmla="val 18750"/>
              <a:gd name="adj2" fmla="val -8333"/>
              <a:gd name="adj3" fmla="val -300833"/>
              <a:gd name="adj4" fmla="val 176541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PD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247840"/>
            <a:ext cx="2133720" cy="419040"/>
          </a:xfrm>
          <a:prstGeom prst="borderCallout1">
            <a:avLst>
              <a:gd name="adj1" fmla="val 18750"/>
              <a:gd name="adj2" fmla="val -8333"/>
              <a:gd name="adj3" fmla="val 384092"/>
              <a:gd name="adj4" fmla="val 30632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aptop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676520" cy="380880"/>
          </a:xfrm>
          <a:prstGeom prst="borderCallout1">
            <a:avLst>
              <a:gd name="adj1" fmla="val 18750"/>
              <a:gd name="adj2" fmla="val -8333"/>
              <a:gd name="adj3" fmla="val 370000"/>
              <a:gd name="adj4" fmla="val 16363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End Res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d result is a system with security similar to a closed-architecture system but with the flexibility of the open Windows platfor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hn Manferdelli, General Manager, Microsoft "Palladium" Business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Lucky Green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hamrock@cypherpunks.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ies will occur after DEF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alk to me during the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orge Orwell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sted Computing Platform Al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trustedcomputing.or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Main Specifications Version 1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PC Specific Implementation Specifications Version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Trusted Platform Module Protection Profile Version 1.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ss And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/ Palladium Frequently Asked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cl.cam.ac.uk/~rja14/tcpa-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in Open versus Closed Systems - The Dance of Boltzmann, Coase an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www.ftp.cl.cam.ac.uk/ftp/users/rja14/toulouse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ven Levy, MSNBC/Newsweek, “The Big Secret”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www.msnbc.com/news/770511.asp?cp1=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’s DRM OS (Palladium) US Patent 6,330,670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uspto.gov/patft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 PressPass Q&amp;A Palla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www.microsoft.com/presspass/features/2002/jul02/07-01palladium.as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 Broadband and Digital Television Promotion Act (S. 20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thomas.loc.gov/cgi-bin/query/z?c107:S.204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Membership Prof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CPA is a forum of platform product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, Advanced Micro Devices (AMD), Motor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/C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enix/Award, American Megatrends (AMI), National Semicond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, Wave Systems, RSA Security, Check Point, Certicom, Trend Micro, Symantec, Tripwire, Crypto AG [NS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, Ado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Dell, Gateway, Fujitsu, Samsung, Toshi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170+ Member Compan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2004840"/>
          <a:ext cx="7696440" cy="4776840"/>
        </p:xfrm>
        <a:graphic>
          <a:graphicData uri="http://schemas.openxmlformats.org/drawingml/2006/table">
            <a:tbl>
              <a:tblPr/>
              <a:tblGrid>
                <a:gridCol w="1866960"/>
                <a:gridCol w="1943280"/>
                <a:gridCol w="1942920"/>
                <a:gridCol w="1943280"/>
              </a:tblGrid>
              <a:tr h="47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Degree Web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om Corp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360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r, Inc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Card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aero Technologie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System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icro Device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ec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ddin Knowledge System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ic Research Ltd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xpress Company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Megatrend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us Security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Rousset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um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trol Uruguaya S.A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mo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DATA AG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View Development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tream Technology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ice Researc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ig Lt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eo Technology LLC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um Network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Infosys Pte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berus Information Security Limite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com Corp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Point Softwa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FLOW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alis-IT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arron Systems Incorporate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herKey Exchang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akware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Intelligenc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gnie Européenne de Développement SA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l Electronic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Computer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Elektronik Infosys Gmb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pto AG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ate ESM Oy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K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 Computer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 Technologie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GAN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nnotech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Persona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x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Cguard.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yp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n Comm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va Technology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ust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COM P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ntic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alibur Solutions,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GOS Development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LOQ AB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cces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ress Technologies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-Siemens-Comput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way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plu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trotter Soft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Packard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achi, Ltd. PC Di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Secur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Softwa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.net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Tech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Alink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er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Asia Pacific Pte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Core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yde Software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 Scienc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ok Technologies L.L.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Business Machin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ervice Consultant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Dynamic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Security 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Trust Technologie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meg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ten Chase Applied Research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corp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are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works Technologie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 (SHENZHEN) R&amp;D Center, Legend Group Lt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g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 Audio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onic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IL Consult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Systems Flash Disk Pione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S Enterpris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vision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ve Media Group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DNA Incorpora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ogic Co.,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xis Biometric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Electronic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c International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-Mind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emiconductor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ipher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S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Nanny Software International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ctiv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tmospher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ctav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ecure Software Canad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ssociat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rend Technolog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ll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id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Micro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 As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Guardia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Semiconducto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 Technologies, Ltd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enburg Custom Chips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Digital Hard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waterhouse Coop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 Resourc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Team Computer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 Data Securit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bow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theon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-Net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trike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Net, Incorporate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LINK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M MORPH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RELTO Enterpris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 ELECTRONICS CO.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 Institut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mberger, Smart Card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Applications International Co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on Technologies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Micro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ra Communications AB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ant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Computing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ystems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A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x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RU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 Communications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crosystem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icroelectronic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antec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Technologie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r Software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les e-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Certain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 System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icr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wi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pen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Time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ec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poin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N Entertainment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ze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maco Safeware AG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Cert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Saf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di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sign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point Engineer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 Advanced Data Securi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 Systems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or Nixdorf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Magic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Vist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190440"/>
            <a:ext cx="7391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ology (Phase 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Platform Module (TPM), aka the “Fritz Chip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resistant chip to be included on all future motherbo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unt; either a separate part or integrated into the chip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riteria EAL3 [augmented] cer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9718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Functionality Categ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Measur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yptographic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rocess ha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4:21:27Z</dcterms:created>
  <dc:creator>Lucky Green</dc:creator>
  <dc:description/>
  <dc:language>en-US</dc:language>
  <cp:lastModifiedBy>Lucky Green</cp:lastModifiedBy>
  <dcterms:modified xsi:type="dcterms:W3CDTF">2002-07-10T15:33:49Z</dcterms:modified>
  <cp:revision>139</cp:revision>
  <dc:subject/>
  <dc:title>TCPA: the mother(board) of all Big Brothers</dc:title>
</cp:coreProperties>
</file>