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EFB5-F666-426E-A448-5DA954B780B3}" type="datetime">
              <a:rPr b="0" lang="en-US" sz="1200" spc="-1" strike="noStrike">
                <a:solidFill>
                  <a:srgbClr val="000000"/>
                </a:solidFill>
                <a:latin typeface="Verdana"/>
              </a:rPr>
              <a:t>07/30/26</a:t>
            </a:fld>
            <a:endParaRPr b="0" lang="en-US" sz="1200" spc="-1" strike="noStrike">
              <a:solidFill>
                <a:srgbClr val="000000"/>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CE1F-86B8-4D3F-A35D-F914C1EB5D2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important to place the dietary transition of native people into the context of larger global shifts in dietary intakes, as it is symptomatic of the same forces that remove people from the self-sufficient production of nutritious foods. Nutritional epidemiologists (such as Barry Popkins) have described the NUTRITION TRANSITION as the human dietary and physical activity shifts, and corresponding nutrition-related disease patterns that have taken place over the last three centuries. This taxonomy is helpful for describing the unique experiences of indigenous people of North America. In other parts of the world, human populations have moved through stages of “collecting food (subsistence)”,  “famine”, “receding famine”, and “food excess” at variable rates and in variable patterns. In the case of Native Americans, as is true for many indigenous people, the shift in dietary patterns has historically been particularly drastic moving from that of COLLECTING FOOD (click), which is marked by certain nutrient characteristics, to that which is called “Nutrition Related Non-Communicable Disease” (click) because the hallmark of this dietary pattern is the rise in prevalence of obesity and chronic diseases like heart disease, diabetes and cancers. This current dietary pattern - Nutrition Related Non-Communicable Disease - is the phase that much of world is either currently IN (higher income countries) or entering INTO (moderate income countries), and is of grave concern to for the health of populations worldwide. The direct, rapid transition from the phase of COLLECTING FOOD to that of NUTRITION RELATED NON-COMMUNICABLE DISEASE  among many indigenous people, including Native Americans, is due to the forced and  rapid removal of native people from the resources needed to provision their own food, and the rapid onset effects of a population experiencing disenfranchisement, discrimination and poverty. Destruction of a population’s food base is a particularly devastating form of violence.</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1537-E977-4713-9A8E-59CB69C5972A}"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veral studies have shown that traditional foods have a preferable nutrient profile over processed store-bought foods. Traditional foods have been shown to have more fiber, vitamin A, vitamin E, phytochemicals (antioxidants), minerals, and healthy fats. Correspondingly, people who eat diet higher in traditional foods have been found to have better intakes of these necessary nutrients. </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0B83-768C-4E64-AB4A-1D7659C4EC33}"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A8A90-64A5-4B11-843C-E256C44CA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BF4AC-E457-4D9C-BB1A-360CBE850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8474A-6910-4EC7-AF0E-C475F5214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96CD6-70B8-44EE-B9A7-99D44935D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3A3735-904B-47BE-A306-7A8F21B44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1BAAB-DD8C-46AF-B2BD-E50BB7020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126D4-DA57-482C-8B1D-659A9AD25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22C5B-48F6-47C9-92B0-682099558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5F6B8-8F9E-4D34-A1EF-A5C61486F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249AF-3887-4100-BA23-9391C3877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EED69-FFFF-416F-8DB6-1F2B8157E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B12DB-75EA-4A43-96C7-0147DA904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017CF-D19C-4291-BBEB-4C03436D1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60F59-65FD-4438-AEC0-2A91B43D1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CF71A-0DA5-417F-B2F2-E51200963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4622BB-DAE9-4464-8DF6-A141B41BA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EFD78-E11D-4EBF-9C6E-59292001E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1668A-575C-4E60-AF3E-F7DF7D5E3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8F85E-214D-46DC-B368-E0A29AF7D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1D261-894E-4EE9-BDCC-1BA07D23F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456F6-232B-4360-BED5-062847BEA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F1A31-3070-41A2-B28D-283571B82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B0540-4331-4B3F-9DE6-EF9001B05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8636E-8FFF-4531-B560-7D6FB502D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47E2-E067-40FA-AEAF-87AFEB41E21F}" type="datetime">
              <a:rPr b="0" lang="en-US" sz="1200" spc="-1" strike="noStrike">
                <a:solidFill>
                  <a:srgbClr val="000000"/>
                </a:solidFill>
                <a:latin typeface="Verdana"/>
              </a:rPr>
              <a:t>07/30/26</a:t>
            </a:fld>
            <a:endParaRPr b="0" lang="en-US" sz="1200" spc="-1" strike="noStrike">
              <a:solidFill>
                <a:srgbClr val="000000"/>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1D94-4083-4B12-A384-AE2EC289850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AC67-F42F-4AB7-928F-34C4CF756C43}" type="datetime">
              <a:rPr b="0" lang="en-US" sz="1200" spc="-1" strike="noStrike">
                <a:solidFill>
                  <a:srgbClr val="eaeaea"/>
                </a:solidFill>
                <a:latin typeface="Verdana"/>
              </a:rPr>
              <a:t>07/30/26</a:t>
            </a:fld>
            <a:endParaRPr b="0" lang="en-US" sz="1200" spc="-1" strike="noStrike">
              <a:solidFill>
                <a:srgbClr val="000000"/>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6511-C324-4788-9BA3-9AE75B50DF65}" type="slidenum">
              <a:rPr b="0" lang="en-US"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0" lang="en-US" sz="2600" spc="-1" strike="noStrike">
                <a:solidFill>
                  <a:srgbClr val="ffffcc"/>
                </a:solidFill>
                <a:latin typeface="Arial"/>
              </a:rPr>
              <a:t>REVITALIZING NATIVE FOODWAYS AMONG THE HAUDENOSAUNEE: NUTRITIONAL BENEFITS AND POLITICAL ECONOMIC BARRIERS</a:t>
            </a:r>
            <a:br>
              <a:rPr sz="1400"/>
            </a:br>
            <a:br>
              <a:rPr sz="4100"/>
            </a:br>
            <a:r>
              <a:rPr b="1" lang="en-US" sz="1600" spc="-1" strike="noStrike">
                <a:solidFill>
                  <a:srgbClr val="ffffcc"/>
                </a:solidFill>
                <a:latin typeface="Arial"/>
              </a:rPr>
              <a:t>Brooke Hansen, Ph.D. Native American Studies Coordinator, Department of Anthropology, Ithaca College</a:t>
            </a:r>
            <a:br>
              <a:rPr sz="1600"/>
            </a:br>
            <a:br>
              <a:rPr sz="1600"/>
            </a:br>
            <a:r>
              <a:rPr b="1" lang="en-US" sz="1600" spc="-1" strike="noStrike">
                <a:solidFill>
                  <a:srgbClr val="ffffcc"/>
                </a:solidFill>
                <a:latin typeface="Arial"/>
              </a:rPr>
              <a:t>Julia Lapp, Ph.D., Department of Health Promotion and Physical Education, Ithaca College</a:t>
            </a:r>
            <a:br>
              <a:rPr sz="1600"/>
            </a:br>
            <a:br>
              <a:rPr sz="1600"/>
            </a:br>
            <a:r>
              <a:rPr b="1" lang="en-US" sz="1600" spc="-1" strike="noStrike">
                <a:solidFill>
                  <a:srgbClr val="ffffcc"/>
                </a:solidFill>
                <a:latin typeface="Arial"/>
              </a:rPr>
              <a:t>AAA, Philadelphia, Dec. 2, 2009</a:t>
            </a:r>
            <a:endParaRPr b="0" lang="en-US" sz="1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Diet and Health</a:t>
            </a:r>
            <a:endParaRPr b="0" lang="en-US" sz="36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eaeaea"/>
              </a:solidFill>
              <a:latin typeface="Verdana"/>
            </a:endParaRPr>
          </a:p>
        </p:txBody>
      </p:sp>
      <p:sp>
        <p:nvSpPr>
          <p:cNvPr id="124" name="Right Arrow 5"/>
          <p:cNvSpPr/>
          <p:nvPr/>
        </p:nvSpPr>
        <p:spPr>
          <a:xfrm>
            <a:off x="3565440" y="2162160"/>
            <a:ext cx="2675160" cy="2104920"/>
          </a:xfrm>
          <a:prstGeom prst="rightArrow">
            <a:avLst>
              <a:gd name="adj1" fmla="val 50000"/>
              <a:gd name="adj2" fmla="val 50024"/>
            </a:avLst>
          </a:prstGeom>
          <a:solidFill>
            <a:srgbClr val="339966"/>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r>
              <a:rPr b="1" i="1" lang="en-US" sz="1800" spc="-1" strike="noStrike">
                <a:solidFill>
                  <a:srgbClr val="171717"/>
                </a:solidFill>
                <a:latin typeface="Verdana"/>
              </a:rPr>
              <a:t>Nutrition</a:t>
            </a: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71717"/>
                </a:solidFill>
                <a:latin typeface="Verdana"/>
              </a:rPr>
              <a:t>       </a:t>
            </a:r>
            <a:r>
              <a:rPr b="1" i="1" lang="en-US" sz="1800" spc="-1" strike="noStrike">
                <a:solidFill>
                  <a:srgbClr val="171717"/>
                </a:solidFill>
                <a:latin typeface="Verdana"/>
              </a:rPr>
              <a:t>Transition</a:t>
            </a:r>
            <a:endParaRPr b="0" lang="en-US" sz="1800" spc="-1" strike="noStrike">
              <a:solidFill>
                <a:srgbClr val="eaeaea"/>
              </a:solidFill>
              <a:latin typeface="Verdana"/>
            </a:endParaRPr>
          </a:p>
        </p:txBody>
      </p:sp>
      <p:sp>
        <p:nvSpPr>
          <p:cNvPr id="125" name="Rectangle 6"/>
          <p:cNvSpPr/>
          <p:nvPr/>
        </p:nvSpPr>
        <p:spPr>
          <a:xfrm>
            <a:off x="152280" y="1447920"/>
            <a:ext cx="3505320" cy="1981080"/>
          </a:xfrm>
          <a:prstGeom prst="rect">
            <a:avLst/>
          </a:prstGeom>
          <a:solidFill>
            <a:srgbClr val="eb7453"/>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COLLECTING FOOD</a:t>
            </a:r>
            <a:endParaRPr b="0" lang="en-US" sz="18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unrefined carbohydrate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fiber</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favorable polyunsaturated fat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ow unfavorable saturated fat and</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cholesterol.</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nutrient dense food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ittle obesity or </a:t>
            </a:r>
            <a:r>
              <a:rPr b="0" i="1" lang="en-US" sz="1200" spc="-1" strike="noStrike">
                <a:solidFill>
                  <a:srgbClr val="171717"/>
                </a:solidFill>
                <a:latin typeface="Verdana"/>
              </a:rPr>
              <a:t>Nutrition Related </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71717"/>
                </a:solidFill>
                <a:latin typeface="Verdana"/>
              </a:rPr>
              <a:t>  </a:t>
            </a:r>
            <a:r>
              <a:rPr b="0" i="1" lang="en-US" sz="1200" spc="-1" strike="noStrike">
                <a:solidFill>
                  <a:srgbClr val="171717"/>
                </a:solidFill>
                <a:latin typeface="Verdana"/>
              </a:rPr>
              <a:t>Non-communicable Disease</a:t>
            </a:r>
            <a:endParaRPr b="0" lang="en-US" sz="1200" spc="-1" strike="noStrike">
              <a:solidFill>
                <a:srgbClr val="eaeaea"/>
              </a:solidFill>
              <a:latin typeface="Verdana"/>
            </a:endParaRPr>
          </a:p>
        </p:txBody>
      </p:sp>
      <p:sp>
        <p:nvSpPr>
          <p:cNvPr id="126" name="Rectangle 7"/>
          <p:cNvSpPr/>
          <p:nvPr/>
        </p:nvSpPr>
        <p:spPr>
          <a:xfrm>
            <a:off x="5791320" y="3429000"/>
            <a:ext cx="3047760" cy="2362320"/>
          </a:xfrm>
          <a:prstGeom prst="rect">
            <a:avLst/>
          </a:prstGeom>
          <a:solidFill>
            <a:srgbClr val="29ffff"/>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Nutrition Related</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Non-Communicable Disease</a:t>
            </a:r>
            <a:endParaRPr b="0" lang="en-US" sz="18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1717"/>
                </a:solidFill>
                <a:latin typeface="Verdana"/>
              </a:rPr>
              <a:t> </a:t>
            </a:r>
            <a:r>
              <a:rPr b="0" lang="en-US" sz="1200" spc="-1" strike="noStrike">
                <a:solidFill>
                  <a:srgbClr val="171717"/>
                </a:solidFill>
                <a:latin typeface="Verdana"/>
              </a:rPr>
              <a:t>High refined, sugary food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ow fiber</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High saturated fats, trans fats and</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cholesterol</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Energy dense</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obesity and nutrition</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related diseases of lifestyle.</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Nutritional Benefits of Traditional Diets</a:t>
            </a:r>
            <a:endParaRPr b="0" lang="en-US" sz="3200" spc="-1" strike="noStrike">
              <a:solidFill>
                <a:srgbClr val="ffffcc"/>
              </a:solidFill>
              <a:latin typeface="Arial"/>
            </a:endParaRPr>
          </a:p>
        </p:txBody>
      </p:sp>
      <p:sp>
        <p:nvSpPr>
          <p:cNvPr id="128"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Variety of nutrients via diverse plant and animal species consumed. </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ecent investigations show high nutrient (vitamins and minerals) density with lower energy (calories) density of “traditional” (wild gathered) versus “market” (store bought) foods.</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eople who eat more traditional foods consume more of a variety of vitamins, minerals, fiber and favorable fats. </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1600" spc="-1" strike="noStrike">
                <a:solidFill>
                  <a:srgbClr val="eaeaea"/>
                </a:solidFill>
                <a:latin typeface="Verdana"/>
              </a:rPr>
              <a:t>(Densmore 1929; Mihesuah 2005; Minnis 2000; Moerman 1998; Parker 1968, Kuhnlein and Receveur 1996) </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Conclusions</a:t>
            </a:r>
            <a:endParaRPr b="0" lang="en-US" sz="3600" spc="-1" strike="noStrike">
              <a:solidFill>
                <a:srgbClr val="ffffcc"/>
              </a:solidFill>
              <a:latin typeface="Arial"/>
            </a:endParaRPr>
          </a:p>
        </p:txBody>
      </p:sp>
      <p:sp>
        <p:nvSpPr>
          <p:cNvPr id="130" name="PlaceHolder 2"/>
          <p:cNvSpPr>
            <a:spLocks noGrp="1"/>
          </p:cNvSpPr>
          <p:nvPr>
            <p:ph/>
          </p:nvPr>
        </p:nvSpPr>
        <p:spPr>
          <a:xfrm>
            <a:off x="457200" y="1142640"/>
            <a:ext cx="8229600" cy="4987800"/>
          </a:xfrm>
          <a:prstGeom prst="rect">
            <a:avLst/>
          </a:prstGeom>
          <a:noFill/>
          <a:ln w="0">
            <a:noFill/>
          </a:ln>
        </p:spPr>
        <p:txBody>
          <a:bodyPr anchor="t">
            <a:normAutofit fontScale="95000"/>
          </a:bodyPr>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oader vision of health to include culture, community and environment = cultural wellness</a:t>
            </a:r>
            <a:endParaRPr b="0" lang="en-US" sz="1600" spc="-1" strike="noStrike">
              <a:solidFill>
                <a:srgbClr val="eaeaea"/>
              </a:solidFill>
              <a:latin typeface="Verdan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ursuit of cultural wellness:</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ecolonization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vitalization</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patriation of land and cultural patrimony</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vironmental justice</a:t>
            </a:r>
            <a:endParaRPr b="0" lang="en-US" sz="1600" spc="-1" strike="noStrike">
              <a:solidFill>
                <a:srgbClr val="eaeaea"/>
              </a:solidFill>
              <a:latin typeface="Verdana"/>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nthropology: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aboration</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pplied &amp; activist anthropology</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itical theoretical perspectives </a:t>
            </a:r>
            <a:endParaRPr b="0" lang="en-US" sz="1600" spc="-1" strike="noStrike">
              <a:solidFill>
                <a:srgbClr val="eaeaea"/>
              </a:solidFill>
              <a:latin typeface="Verdana"/>
            </a:endParaRPr>
          </a:p>
          <a:p>
            <a:pPr lvl="1" marL="7056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5e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od and Nutrition: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raditional foods are generally healthier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gular consumption of traditional foods can reduce risk of Nutrition Related Non-Communicable Disease</a:t>
            </a:r>
            <a:endParaRPr b="0" lang="en-US" sz="1600" spc="-1" strike="noStrike">
              <a:solidFill>
                <a:srgbClr val="eaeaea"/>
              </a:solidFill>
              <a:latin typeface="Verdan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22:59:33Z</dcterms:created>
  <dc:creator>Ithaca College</dc:creator>
  <dc:description/>
  <dc:language>en-US</dc:language>
  <cp:lastModifiedBy>Julia Lapp</cp:lastModifiedBy>
  <dcterms:modified xsi:type="dcterms:W3CDTF">2009-12-01T00:17:31Z</dcterms:modified>
  <cp:revision>21</cp:revision>
  <dc:subject/>
  <dc:title>REVITALIZING NATIVE FOODWAYS AMONG THE HAUDENOSAUNEE: NUTRITIONAL BENEFITS AND POLITICAL ECONOMIC BARRIERS </dc:title>
</cp:coreProperties>
</file>